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37A-DA63-4F2C-BFE2-0D418031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936-0E0A-41C1-A1CF-96A25279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CDD-A15E-462A-AD1E-C670E5C9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C4A-57C0-4D24-AC65-05F22846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62A-306E-4545-92DE-E53E5955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4B0-5086-45D7-BAAF-232E3A87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642-CED8-4ECB-B6F7-949597DB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9648-52DA-4600-8FEC-D1C6A0F7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FE0-174D-4077-9F05-3274A97A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9AB-2944-495F-A2C9-E1735B33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418-9FDA-458B-9C56-12B0D6F2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68E-9701-4807-80A0-91B7A19B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1E59-8FD9-4AC2-9E7B-7771D0EC6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6000" y="2923920"/>
            <a:ext cx="32400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ntinu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9280" y="620640"/>
          <a:ext cx="8713800" cy="6096240"/>
        </p:xfrm>
        <a:graphic>
          <a:graphicData uri="http://schemas.openxmlformats.org/drawingml/2006/table">
            <a:tbl>
              <a:tblPr/>
              <a:tblGrid>
                <a:gridCol w="2457720"/>
                <a:gridCol w="1563480"/>
                <a:gridCol w="1192320"/>
                <a:gridCol w="1355760"/>
                <a:gridCol w="2144520"/>
              </a:tblGrid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will happ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ctivi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semination channel(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o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Lea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 project briefs (topics –based) to disseminate intermediate research output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 meetings 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al networks (VBA; GWP; Learning Group on WRM); for a;   VBDC contact datab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hamoud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 2012- June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dated information from project teams (V1 to V5); assistance of a professional writer/editor/desig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 and disseminate a short video on each project activities (e.g. PGIS,  IP, ZonAgri modelling in action, etc.) and achievements to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 meetings; fora;  YouTu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hamoud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 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veral unprocessed videos on each project field work already available. Additional information may be required from project teams. Assistance of a professional videographer may be required. Projects lack funds for this activity, so any support from CPWF global program will be useful h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.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 and disseminate press articles and press rele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spapers in Burkina and Ghana; GWP networks; VBA networks; CPWF net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ring events such as the World Water Week, the Africa Water Week, the World Environment Day, VBDC reflection workshops, field tour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s from project teams (V1 to V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 radio broadcasts to convey key emerging messages from research projects dealing directly with farmers (V2 &amp;V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ty rad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hamoud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ust –November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from project teams (V2;V3; V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Title 5"/>
          <p:cNvSpPr/>
          <p:nvPr/>
        </p:nvSpPr>
        <p:spPr>
          <a:xfrm>
            <a:off x="395280" y="115920"/>
            <a:ext cx="820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1" lang="en-US" sz="1500" spc="-1" strike="noStrike">
                <a:solidFill>
                  <a:srgbClr val="00b050"/>
                </a:solidFill>
                <a:latin typeface="Calibri"/>
              </a:rPr>
              <a:t>VBDC:  Action Plan for Learning and Documenting Phase 2 Resul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4033800" cy="3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0920" y="404640"/>
          <a:ext cx="8712000" cy="6324840"/>
        </p:xfrm>
        <a:graphic>
          <a:graphicData uri="http://schemas.openxmlformats.org/drawingml/2006/table">
            <a:tbl>
              <a:tblPr/>
              <a:tblGrid>
                <a:gridCol w="2457360"/>
                <a:gridCol w="1563840"/>
                <a:gridCol w="1191960"/>
                <a:gridCol w="1355760"/>
                <a:gridCol w="214308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will happ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ctivi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w (channels, etc.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o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Lea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8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d consultations/discussions with  policy –makers( through VBA and GWP platforms), donors and key stakeholders at national level (through forums and individual meeting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esentation and presentations (e.g. policy –briefs on specific topics) at their platforms; face –to- face interaction (for the development of the water charter; exploring collaboration opportuniti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from projects teams  (V1 to V5);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ssistance of a professional writer/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involved in national multi stakeholder platforms  (e.g. Learning Group on WRM in BF) in BF and Ghana for sharing research outputs for feedbacks and uptake of resul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e –to- face interaction; field visits; project briefs; presen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ren , Mou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rter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from projects teams  (V1 to V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.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 joint scientific publications on  cross –project and cross –basin themes such as innovation platforms &amp; student research outpu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ine meetings; cross – project/basin writeshops; African for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k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uary –November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from VBDC projects teams  (V1 to V5);inputs from basin research project teams; coordination from PLs; communication support from CPWF glob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 and disseminate a short bilingual documentary video to disseminate intermediate or final research results from VBD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TVs in Burkina and Gh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hamoudou,        Kar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 – December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from basin research projects teams; assistance from a professional film maker; dependent on innovation research outpu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.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 of key  project data &amp; outputs into VBA’s information and sharing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ine datab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ke, Mahamoudo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– December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from projects teams  (V1 to V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6:27:14Z</dcterms:created>
  <dc:creator>user</dc:creator>
  <dc:description/>
  <dc:language>en-US</dc:language>
  <cp:lastModifiedBy>user</cp:lastModifiedBy>
  <dcterms:modified xsi:type="dcterms:W3CDTF">2012-09-26T11:55:08Z</dcterms:modified>
  <cp:revision>17</cp:revision>
  <dc:subject/>
  <dc:title>Target audience: VBDC Researchers(1)</dc:title>
</cp:coreProperties>
</file>